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87C-653C-4EB6-AC7B-E2C460BD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F44-8611-452F-84D6-69B3CCC7B4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5114-C558-4003-A33C-0DCAD8024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FE11-3553-4F9F-A2AF-CB10DE871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2CF4-18D4-4A95-A0E9-D2680F19C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F071-2614-4571-AE1B-77C1FFC1E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5FCC-EC1F-40E5-A68D-7189A43E2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E7F7-56BE-4814-8FA6-8D0B9C5ED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52FB-EFCC-476E-A58A-52F715CCF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6BE8-B8AA-42C8-9E06-DA6967A47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C865-D668-4FE4-AAE8-0DE0FB0AB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7297-B5CC-4968-850B-615D100EF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D21D-701E-4AF8-90D8-DAACC3C25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BD74-1F3D-41AB-8A16-8B51E7634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98960" y="6498360"/>
            <a:ext cx="9828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51DE-ECFE-4280-8E53-CBA31E76B4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3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" name="图片 1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3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3"/>
          <p:cNvSpPr/>
          <p:nvPr/>
        </p:nvSpPr>
        <p:spPr>
          <a:xfrm flipV="1">
            <a:off x="0" y="5294880"/>
            <a:ext cx="9144000" cy="16333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" name="图片 5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3851280" y="6093000"/>
            <a:ext cx="622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db3"/>
                </a:solidFill>
                <a:latin typeface="方正兰亭中黑_GBK"/>
                <a:ea typeface="方正兰亭中黑_GBK"/>
              </a:rPr>
              <a:t>2015.1.1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763640" y="2565360"/>
            <a:ext cx="520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楷体"/>
                <a:ea typeface="楷体"/>
              </a:rPr>
              <a:t>演示标题位置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4"/>
          <p:cNvSpPr/>
          <p:nvPr/>
        </p:nvSpPr>
        <p:spPr>
          <a:xfrm>
            <a:off x="4098960" y="6498360"/>
            <a:ext cx="982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B24-10D5-426F-B66C-C2315761997F}" type="slidenum">
              <a:rPr b="0" lang="en-US" sz="1000" spc="-1" strike="noStrike">
                <a:solidFill>
                  <a:srgbClr val="aa50aa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68360" y="1700280"/>
            <a:ext cx="7429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黑体"/>
                <a:ea typeface="黑体"/>
              </a:rPr>
              <a:t>内文内文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黑体"/>
                <a:ea typeface="黑体"/>
              </a:rPr>
              <a:t>内文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黑体"/>
                <a:ea typeface="黑体"/>
              </a:rPr>
              <a:t>内文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黑体"/>
                <a:ea typeface="黑体"/>
              </a:rPr>
              <a:t>内文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黑体"/>
                <a:ea typeface="黑体"/>
              </a:rPr>
              <a:t>内文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0920" y="44280"/>
            <a:ext cx="338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edb3"/>
                </a:solidFill>
                <a:latin typeface="隶书"/>
                <a:ea typeface="隶书"/>
              </a:rPr>
              <a:t>演示标题位置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4098960" y="6498360"/>
            <a:ext cx="982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ABD4-54BB-4C89-BE34-91F994C09ADA}" type="slidenum">
              <a:rPr b="0" lang="en-US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" descr=""/>
          <p:cNvPicPr/>
          <p:nvPr/>
        </p:nvPicPr>
        <p:blipFill>
          <a:blip r:embed="rId1"/>
          <a:stretch/>
        </p:blipFill>
        <p:spPr>
          <a:xfrm>
            <a:off x="-108000" y="-141120"/>
            <a:ext cx="9360000" cy="6999120"/>
          </a:xfrm>
          <a:prstGeom prst="rect">
            <a:avLst/>
          </a:prstGeom>
          <a:ln w="0">
            <a:noFill/>
          </a:ln>
        </p:spPr>
      </p:pic>
      <p:sp>
        <p:nvSpPr>
          <p:cNvPr id="91" name="灯片编号占位符 4"/>
          <p:cNvSpPr/>
          <p:nvPr/>
        </p:nvSpPr>
        <p:spPr>
          <a:xfrm>
            <a:off x="4098960" y="6498360"/>
            <a:ext cx="982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932-F3C5-47B8-9427-CA861E0C108D}" type="slidenum">
              <a:rPr b="0" lang="en-US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9:15:25Z</dcterms:created>
  <dc:creator>waysun</dc:creator>
  <dc:description/>
  <dc:language>en-US</dc:language>
  <cp:lastModifiedBy>Administrator</cp:lastModifiedBy>
  <dcterms:modified xsi:type="dcterms:W3CDTF">2015-01-12T06:43:18Z</dcterms:modified>
  <cp:revision>147</cp:revision>
  <dc:subject/>
  <dc:title>幻灯片 1</dc:title>
</cp:coreProperties>
</file>